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1A7-3F8F-44B7-B1C9-27322C0B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706-C576-4E36-8B92-219FC61E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153-7A4D-4B27-86F7-C3A783CF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17A-C5B0-457F-8E95-C6D63A5C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F67-C6CE-4C74-A56C-AB96D31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0E2-D8CE-4D6C-A1FC-D280499E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D94-2AD0-42CA-8176-6CF0AB32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BDE-A3C3-4A0B-9908-F6BAE41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EFB-0015-4434-B475-F56890C5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A7E-C252-4A76-B875-D74019A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79C-9642-4E6D-888C-6D7BEB63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7A7-D5AB-4B32-B68D-FAB53174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280B-1499-4273-A46F-8D725D35C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-1295280"/>
            <a:ext cx="665784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0:56:32Z</dcterms:created>
  <dc:creator>Curtis Ranweiler</dc:creator>
  <dc:description/>
  <dc:language>en-US</dc:language>
  <cp:lastModifiedBy>Curtis Ranweiler</cp:lastModifiedBy>
  <dcterms:modified xsi:type="dcterms:W3CDTF">2011-08-31T20:57:04Z</dcterms:modified>
  <cp:revision>1</cp:revision>
  <dc:subject/>
  <dc:title>Slide 1</dc:title>
</cp:coreProperties>
</file>